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5DD-E85E-4FD9-9C60-470625D5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CBE-7E29-428F-B626-672DCA2D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7F3-78E5-42C8-92C9-6D89509D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D02-187D-4DD5-8CB5-A0331EEF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338-0DBA-4515-9C47-9800F9F7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A29-AC07-45B4-8FFE-60A28E3E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0BC-97EF-47AC-A475-D2DD63EB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AB9-1C05-48F1-BF67-1C9606BB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322-0C12-4BE8-903C-CFA53E13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E51-F2DA-4966-8037-3FD7DBA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D51-6123-4C09-B4C0-0D215B9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404-F8C8-4039-86C1-3DE6C422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C25E-FAC5-45B7-86AF-3D2A6CF11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484280"/>
            <a:ext cx="7416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Непрерывное совершенствование как инструмент повышения конкурентоспособности национальной экономик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72360" y="622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81080" y="62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472428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юнь 2007, Украина, г.Судак, «Созвездие ка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ервое выступление: Сентябрь 2006 г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ый Алматинский Международный Форум по Качеству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24920" y="61272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197000"/>
            <a:ext cx="78487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В успешных компаниях ориентированность на качество является фундаментальной основой организационной стратегии поддержания конкурентоспособности на мировых рынках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рманд В. Фейгенбау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145360" y="59544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268280"/>
            <a:ext cx="763272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егодня, в условиях суровой конкуренции на рынке, любое промедление в освоении самых передовых технологий обходится дорого. Промедление в освоении   новейших методов менеджмента может стоить не меньш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сааки Има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199360" y="601560"/>
            <a:ext cx="432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125360"/>
            <a:ext cx="77058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осле того как благодаря инновациям компания достигает конкурентного преимущества,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состоянии его удерживать 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помощью непрерывного совершенствов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йкл Пор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16000" y="119700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Конкурентоспособность национальной экономики     определяется      способностью компаний производить конкурентоспособные товары и услу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Конкурентоспособность товаров и услуг определяется двумя факторами – качеством и производитель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Непрерывное совершенствование позволяет добиться основных конкурентных преимуществ – качества и производи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37440" y="60336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43920" y="628560"/>
            <a:ext cx="4316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981000"/>
            <a:ext cx="7559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Долгосрочная и устойчивая конкурентоспособность национальной экономики определяется способностью компаний непрерывно совершенств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ю деятельность,            ориентированную на качество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16000" y="1197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37440" y="60336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765000"/>
            <a:ext cx="7777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ова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Бенделл  То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Наставники по качеству.: Пер. с англ. М.: РИА «Стандарты и качество», 2000. - 48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Друкер  Пи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Задачи менеджмента в XXI веке.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.с англ.:-М.:Издательский дом «Вильямс», 2003. - 27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и Тито, Кондо Ëсио, Ватсон Грего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Качество  в  XXI век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 качества  в  обеспечении конкурентоспособности и устойчивого развития.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. с англ..-М.: РИА «Стандарты и качество», 2005. - 28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йнер Стюар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лючевые идеи  менеджмента.: Пер. с англ. - М.: ИНФРА-М, 2002.-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347 с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сааки Има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йдзен: Ключ к успеху японских комп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. с англ. - 2-е изд.- М.:«Альпина Бизнес Букс», 2005. - 27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Масааки Има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мба Кайдзен: путь к снижению затрат и  повышению качества.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. с англ. - М.: «Альпина Бизнес Букс»,  2005. - 34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 Мэнкью Грегор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нципы экономикс. - СПБ: Питер Ком, 1999. - 78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 Портер Майк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куренция.: Пер.с англ. - М.: Издательский  дом «Вильямс», 2005. - 608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ртер Майкл,  Такеути Хиротака, Сакакибара Марик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понская экономическая модел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ли Япония конкурировать?: Пер. с англ. - М.: «Альпина Бизнес Букс» 2005. - 26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. Фидельман Г.Н., Дедиков С.В., Адлер Ю.П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льтернативный  менеджмент: путь к глоб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и -М.: «Альпина Бизнес Букс», 2005. - 186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1197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37440" y="60336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27000" y="2637000"/>
            <a:ext cx="7317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3933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k@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17000" y="6382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692280"/>
            <a:ext cx="7200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Я говорю своим друзьям из Восточной Европ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Если Вы хотите процветать, Вам необходимо жить по принципу: «с волками жить, по волчьи выть», научится жить по законам стаи. Вы не должны ожидать от нас того, что мы станем играть по Вашим правилам. Мы слишком сильны и не поступимся ни одной своей позицией ради того, чтобы помогать Вам – это противно человеческой природе. Естественно, что мы предпочтем вкладывать средства, чтобы заставить Вашу экономику развиваться. Наши товары дорогие, и мы крайне заинтересованы продвигать их туда, где существуют реальные возможности их покупать. А Вам для того, чтобы развиваться, необходимо напряженно работать самим. Вы должны стартовать с должной мотивацией и не забывать о том, что у Вас есть всего один единственный шанс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альтер Мазин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0" y="1873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1080" y="476280"/>
            <a:ext cx="452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4312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24400" y="2124000"/>
            <a:ext cx="234144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1341360"/>
            <a:ext cx="143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курент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особная эконо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512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49880" y="2151000"/>
            <a:ext cx="250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курентоспособ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ра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55960" y="2841480"/>
            <a:ext cx="34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курентоспособные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3320" y="3289320"/>
            <a:ext cx="41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курентоспособные 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10000" y="3776760"/>
            <a:ext cx="233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41911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30440" y="4614840"/>
            <a:ext cx="617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прерывное совершенств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2781360"/>
            <a:ext cx="32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01720" y="4581000"/>
            <a:ext cx="5923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41497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3716280"/>
            <a:ext cx="467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3274920"/>
            <a:ext cx="398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03280" y="549360"/>
            <a:ext cx="6551640" cy="4464000"/>
          </a:xfrm>
          <a:prstGeom prst="triangle">
            <a:avLst>
              <a:gd name="adj" fmla="val 5027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5589720"/>
            <a:ext cx="69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ерархия конкурентоспособности в аспекте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02600" y="623880"/>
            <a:ext cx="450720" cy="466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1197000"/>
            <a:ext cx="741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Конкурентоспособность предприятия или нации представляет меру их способности в условиях свободного и честного рынка производить и поставлять товары и услуги, отвечающие справедливым международным рыночным требованиям и одновременно приносящие выгоды работникам предприятия или гражданам стра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ерикански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онкурен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5440" y="617400"/>
            <a:ext cx="441360" cy="4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197000"/>
            <a:ext cx="7345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нкурентоспособнос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национальной экономики определяется способность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мпаний производить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нкурентоспособные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48600" y="700200"/>
            <a:ext cx="45900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1557360"/>
            <a:ext cx="755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и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обходимое  ка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емлемая  ц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99280" y="612720"/>
            <a:ext cx="466920" cy="4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981000"/>
            <a:ext cx="7345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Единственная разумная концепция конкурентоспособности на национальном уровне – это производительность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айкл Порт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Причем производительность должна быть не просто высокой, т.е. не уступающей уровню производительности в странах, лидирующих в данной индустрии, но самой высокой; только в этом случае страна может со временем стать мировым лидером в тех или иных отраслях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итер Друк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137440" y="584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557360"/>
            <a:ext cx="7561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Конкурентоспособность национальной экономики определяется способностью компаний производить конкурентоспособные товары и услу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Конкурентоспособность товаров и услуг определяется двумя факторами – качеством и производительность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18440" y="61128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1773360"/>
            <a:ext cx="76327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роизводительность возрастает, когда качество улучшае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сожалению, этот очевидный факт известен лишь избра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.-Эдвардс Демин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0" y="1094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5:01:58Z</dcterms:created>
  <dc:creator>Кирилл</dc:creator>
  <dc:description/>
  <dc:language>en-US</dc:language>
  <cp:lastModifiedBy>User</cp:lastModifiedBy>
  <dcterms:modified xsi:type="dcterms:W3CDTF">2013-09-16T10:44:32Z</dcterms:modified>
  <cp:revision>89</cp:revision>
  <dc:subject/>
  <dc:title>Ассоциация Лидеров Качества </dc:title>
</cp:coreProperties>
</file>