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9BE-4F29-4754-BC8F-6CEF589C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C56-E6FB-4C15-9D9D-ABC8C36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7B9-7466-4D10-851A-CDFFB6EB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2C3-FBBC-42A7-8ECB-7728FFAF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CF4-E03B-4319-9C4B-89CD1C4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204-F351-4FCC-BA61-B7AE088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CAC-602B-41C3-8EAE-35D0420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241-F3C9-4BF9-AE3F-0BD0FC9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76F-F2B9-4E20-9895-F806074C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931-7F7A-46D8-A27F-133D4BA5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2D7-79F3-457A-8B9C-ABA9726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6CC-3D6A-41E5-A757-FC59B09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5A4-53F8-4A0B-B7D5-E8DAD1BDF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916280"/>
            <a:ext cx="74167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, по котор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ы должны ж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по которым мы жив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73408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тябрь 2007 г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й Алматинский Международный Форум по Ка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620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нности ТОО «Беккер и К»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26828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тота на рабочем мес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зрачность ведения бизне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овлеченность персонал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заимовыгодные отношения со всеми заинтересованными сторона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чество производимой продукции и оказываемых услу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620640"/>
            <a:ext cx="792144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литика в области качества ТОО «Беккер и К»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Политика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омпании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в области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это совокупность принципов и норм поведения,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 которых основываются решения, обеспечивающие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становку и достижение целей в области качества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. 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изводимых товаров и оказываемых услуг - главный приоритет и основа успешной деятельности компании.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 выше нормы прибы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2. Требования к качеств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изводимых товаров и оказываемых услуг определяются потребностями и ожиданиями потребителя и вековыми традициями потребления натуральных проду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3. Основа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персонал компании. Компания создает условия для полной реализации способностей персон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4. Основа улучшения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постоянное обучение и самообучение персон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5.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одукции обеспечивается понятными для персонала требованиями и персональной ответственностью за выполняемую рабо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6. Основной принцип работы персонал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делай хорошо сразу, переделывать дорож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7. Качеств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начинается с внутренней самодисциплины, чистой и опрятной рабочей формы, ежесекундного поддержания в чистоте территории, помещений, рабочего места и инстру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Чистота – фирменный знак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8. Основа системы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обязательное соблюдение положений, процедур, инструкций, технологических регламентов, составляющих систему качества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9. Качество получаемых от поставщиков сырья и материал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определяет качество производимой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0. Основа гарантии качеств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  своевременная профилактика систем, машин и механизм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Бережное отношение к ресурсам компании – экономическая основа для улучшения качества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2. Все процессы на предприятии взаимосвязаны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Каждый процесс является важной составляющей единого неразрывного процесса деятельности компании. Второстепенных процессов н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3. Менеджмент процесс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должен быть системным. Системность не должна быть барьером для постоянного совершенств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4. Все решения в компани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принимаются на основе системного анализа, основанного на фактах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сегда принимай честное реш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5. Руководител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должен быть лидером в своем коллектив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Уважительное отношение к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потребителя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поставщикам, к коллегам по работе – норма поведения каждого работника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17. Охрана окружающей сред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неразрывно связана с повышением качества продук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5493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064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Цели в области качества ТОО «Беккер и К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95760" y="1029240"/>
            <a:ext cx="6782760" cy="5314680"/>
            <a:chOff x="1895760" y="1029240"/>
            <a:chExt cx="6782760" cy="5314680"/>
          </a:xfrm>
        </p:grpSpPr>
        <p:cxnSp>
          <p:nvCxnSpPr>
            <p:cNvPr id="107" name="_s17417"/>
            <p:cNvCxnSpPr>
              <a:endCxn id="108" idx="2"/>
            </p:cNvCxnSpPr>
            <p:nvPr/>
          </p:nvCxnSpPr>
          <p:spPr>
            <a:xfrm flipV="1" rot="16200000">
              <a:off x="3732840" y="4721400"/>
              <a:ext cx="2121120" cy="1800"/>
            </a:xfrm>
            <a:prstGeom prst="bentConnector3">
              <a:avLst>
                <a:gd name="adj1" fmla="val 54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7418"/>
            <p:cNvCxnSpPr/>
            <p:nvPr/>
          </p:nvCxnSpPr>
          <p:spPr>
            <a:xfrm flipV="1">
              <a:off x="5260680" y="5963040"/>
              <a:ext cx="45000" cy="5760"/>
            </a:xfrm>
            <a:prstGeom prst="bentConnector4">
              <a:avLst>
                <a:gd name="adj1" fmla="val 227419"/>
                <a:gd name="adj2" fmla="val 46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7419"/>
            <p:cNvCxnSpPr/>
            <p:nvPr/>
          </p:nvCxnSpPr>
          <p:spPr>
            <a:xfrm>
              <a:off x="6892560" y="3297960"/>
              <a:ext cx="408600" cy="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7420"/>
            <p:cNvCxnSpPr>
              <a:stCxn id="112" idx="0"/>
            </p:cNvCxnSpPr>
            <p:nvPr/>
          </p:nvCxnSpPr>
          <p:spPr>
            <a:xfrm flipV="1" rot="16200000">
              <a:off x="5168880" y="3342600"/>
              <a:ext cx="171360" cy="100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7421"/>
            <p:cNvCxnSpPr>
              <a:stCxn id="114" idx="0"/>
            </p:cNvCxnSpPr>
            <p:nvPr/>
          </p:nvCxnSpPr>
          <p:spPr>
            <a:xfrm flipH="1" flipV="1" rot="5400000">
              <a:off x="4149000" y="3330360"/>
              <a:ext cx="172440" cy="103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7422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454880" y="2386080"/>
              <a:ext cx="580320" cy="35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7423"/>
            <p:cNvCxnSpPr/>
            <p:nvPr/>
          </p:nvCxnSpPr>
          <p:spPr>
            <a:xfrm flipV="1">
              <a:off x="7912440" y="3645000"/>
              <a:ext cx="1080" cy="3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7424"/>
            <p:cNvCxnSpPr>
              <a:stCxn id="108" idx="3"/>
            </p:cNvCxnSpPr>
            <p:nvPr/>
          </p:nvCxnSpPr>
          <p:spPr>
            <a:xfrm rot="10800000">
              <a:off x="4760640" y="2487960"/>
              <a:ext cx="783000" cy="718560"/>
            </a:xfrm>
            <a:prstGeom prst="bentConnector3">
              <a:avLst>
                <a:gd name="adj1" fmla="val 100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7425"/>
            <p:cNvCxnSpPr>
              <a:stCxn id="121" idx="0"/>
              <a:endCxn id="122" idx="1"/>
            </p:cNvCxnSpPr>
            <p:nvPr/>
          </p:nvCxnSpPr>
          <p:spPr>
            <a:xfrm rot="5400000">
              <a:off x="1753560" y="2260440"/>
              <a:ext cx="1321560" cy="697680"/>
            </a:xfrm>
            <a:prstGeom prst="bentConnector4">
              <a:avLst>
                <a:gd name="adj1" fmla="val -8719"/>
                <a:gd name="adj2" fmla="val -1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7426"/>
            <p:cNvCxnSpPr>
              <a:stCxn id="117" idx="0"/>
              <a:endCxn id="124" idx="2"/>
            </p:cNvCxnSpPr>
            <p:nvPr/>
          </p:nvCxnSpPr>
          <p:spPr>
            <a:xfrm flipV="1" rot="16200000">
              <a:off x="5646960" y="834840"/>
              <a:ext cx="274680" cy="195228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7427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4664520" y="1803600"/>
              <a:ext cx="274680" cy="1476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7428"/>
            <p:cNvCxnSpPr>
              <a:stCxn id="121" idx="0"/>
              <a:endCxn id="124" idx="2"/>
            </p:cNvCxnSpPr>
            <p:nvPr/>
          </p:nvCxnSpPr>
          <p:spPr>
            <a:xfrm flipH="1" flipV="1" rot="5400000">
              <a:off x="3648600" y="788040"/>
              <a:ext cx="274680" cy="2046240"/>
            </a:xfrm>
            <a:prstGeom prst="bentConnector3">
              <a:avLst>
                <a:gd name="adj1" fmla="val 419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7429"/>
            <p:cNvSpPr/>
            <p:nvPr/>
          </p:nvSpPr>
          <p:spPr>
            <a:xfrm>
              <a:off x="4050360" y="1029240"/>
              <a:ext cx="1516680" cy="64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величить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__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7430"/>
            <p:cNvSpPr/>
            <p:nvPr/>
          </p:nvSpPr>
          <p:spPr>
            <a:xfrm>
              <a:off x="1895760" y="1948320"/>
              <a:ext cx="173340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рентабельность продукции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31"/>
            <p:cNvSpPr/>
            <p:nvPr/>
          </p:nvSpPr>
          <p:spPr>
            <a:xfrm>
              <a:off x="3985560" y="1948320"/>
              <a:ext cx="161784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 оборот предприяти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7432"/>
            <p:cNvSpPr/>
            <p:nvPr/>
          </p:nvSpPr>
          <p:spPr>
            <a:xfrm>
              <a:off x="5951520" y="1948320"/>
              <a:ext cx="1617840" cy="645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долю текущих активов в структуре активов с __%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7433"/>
            <p:cNvSpPr/>
            <p:nvPr/>
          </p:nvSpPr>
          <p:spPr>
            <a:xfrm>
              <a:off x="2066040" y="2955240"/>
              <a:ext cx="1461240" cy="627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затраты на ремонт оборудования  не более чем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7434"/>
            <p:cNvSpPr/>
            <p:nvPr/>
          </p:nvSpPr>
          <p:spPr>
            <a:xfrm>
              <a:off x="4042080" y="2750400"/>
              <a:ext cx="1501920" cy="911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высить  производительность труда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7435"/>
            <p:cNvSpPr/>
            <p:nvPr/>
          </p:nvSpPr>
          <p:spPr>
            <a:xfrm>
              <a:off x="6666480" y="3864960"/>
              <a:ext cx="1868040" cy="797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срок оборачиваемости дебиторской задолженност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7436"/>
            <p:cNvSpPr/>
            <p:nvPr/>
          </p:nvSpPr>
          <p:spPr>
            <a:xfrm>
              <a:off x="7161480" y="2852280"/>
              <a:ext cx="1517040" cy="801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длительность финансового  цикла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7437"/>
            <p:cNvSpPr/>
            <p:nvPr/>
          </p:nvSpPr>
          <p:spPr>
            <a:xfrm>
              <a:off x="2915640" y="3933000"/>
              <a:ext cx="1606680" cy="683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выпуск несоответствующей продукции 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7438"/>
            <p:cNvSpPr/>
            <p:nvPr/>
          </p:nvSpPr>
          <p:spPr>
            <a:xfrm>
              <a:off x="4929480" y="3932280"/>
              <a:ext cx="1657440" cy="663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текучесть сотрудников предприятия до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7439"/>
            <p:cNvSpPr/>
            <p:nvPr/>
          </p:nvSpPr>
          <p:spPr>
            <a:xfrm>
              <a:off x="5683320" y="2916360"/>
              <a:ext cx="1283760" cy="68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низить срок оборачиваемости ТМЗ с __ до __ дн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7440"/>
            <p:cNvSpPr/>
            <p:nvPr/>
          </p:nvSpPr>
          <p:spPr>
            <a:xfrm>
              <a:off x="3833640" y="4759560"/>
              <a:ext cx="1835640" cy="731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среднюю заработную пла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7441"/>
            <p:cNvSpPr/>
            <p:nvPr/>
          </p:nvSpPr>
          <p:spPr>
            <a:xfrm>
              <a:off x="3935520" y="5698800"/>
              <a:ext cx="1733400" cy="64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величить прибыл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омпани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__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620640"/>
            <a:ext cx="7705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лечение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учёба высшего руководства и менедж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учающие семинары, конгрессы, форумы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учёба персонала на предприятии с участ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шего руководства и менедж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разработка процедур положений, инструкций и т.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кружки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тренин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авторские предлож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внутренний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)    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истема организации рабочего ме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)     диаграмма Исика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)     сравнение с миссией, видением, ценностями и политикой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ятия в области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51080" y="692280"/>
            <a:ext cx="739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Диаграмма Исик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30520" y="4014720"/>
            <a:ext cx="505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2641680"/>
            <a:ext cx="82224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32200" y="2641680"/>
            <a:ext cx="75888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4014360"/>
            <a:ext cx="758880" cy="13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70520" y="4014360"/>
            <a:ext cx="758520" cy="137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16120" y="3946680"/>
            <a:ext cx="758880" cy="13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68120" y="4906800"/>
            <a:ext cx="506520" cy="54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357800"/>
            <a:ext cx="63324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64000" y="4906440"/>
            <a:ext cx="82224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38240" y="4425840"/>
            <a:ext cx="506520" cy="61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524560" y="4906440"/>
            <a:ext cx="94752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9960" y="2779560"/>
            <a:ext cx="120168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36560" y="2916360"/>
            <a:ext cx="12708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2760" y="3465360"/>
            <a:ext cx="758880" cy="1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60480" y="2916360"/>
            <a:ext cx="822600" cy="48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34120" y="2709720"/>
            <a:ext cx="442800" cy="34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16800" y="3533760"/>
            <a:ext cx="18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(результ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05840" y="5870520"/>
            <a:ext cx="60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Причинные факторы (характерис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3880" y="2160720"/>
            <a:ext cx="1841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атериа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66800" y="5456160"/>
            <a:ext cx="1297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587920" y="5456160"/>
            <a:ext cx="14623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ашин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86240" y="2160720"/>
            <a:ext cx="177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змер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91080" y="5456160"/>
            <a:ext cx="9396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Люд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981000"/>
            <a:ext cx="7848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ятие решений, основанных на фа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   факт – это достовер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   факт – статистика – анализ –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    управление организацией прозрачным способ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)    качество и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Для успешного руководства организацией и её функционирования, необходимо направлять её и управлять ею систематически и прозрачным способом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нкт 0.2, ИСО 9000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46200" y="1844640"/>
            <a:ext cx="8497800" cy="4167360"/>
            <a:chOff x="646200" y="1844640"/>
            <a:chExt cx="8497800" cy="4167360"/>
          </a:xfrm>
        </p:grpSpPr>
        <p:grpSp>
          <p:nvGrpSpPr>
            <p:cNvPr id="166" name=""/>
            <p:cNvGrpSpPr/>
            <p:nvPr/>
          </p:nvGrpSpPr>
          <p:grpSpPr>
            <a:xfrm>
              <a:off x="646200" y="1844640"/>
              <a:ext cx="8497800" cy="4167360"/>
              <a:chOff x="646200" y="1844640"/>
              <a:chExt cx="8497800" cy="41673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6200" y="1844640"/>
                <a:ext cx="8497800" cy="41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619280" y="3645000"/>
                <a:ext cx="93672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916360" y="3716280"/>
              <a:ext cx="1008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00000" y="612720"/>
            <a:ext cx="7848720" cy="5048280"/>
            <a:chOff x="900000" y="612720"/>
            <a:chExt cx="7848720" cy="5048280"/>
          </a:xfrm>
        </p:grpSpPr>
        <p:sp>
          <p:nvSpPr>
            <p:cNvPr id="171" name=""/>
            <p:cNvSpPr/>
            <p:nvPr/>
          </p:nvSpPr>
          <p:spPr>
            <a:xfrm>
              <a:off x="8224920" y="612720"/>
              <a:ext cx="43164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0000" y="907920"/>
              <a:ext cx="784872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мия Президента Республики Казахст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области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645000"/>
              <a:ext cx="1152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Лидирующая роль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ства 10%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9280" y="2924280"/>
              <a:ext cx="7207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1640" y="3645000"/>
              <a:ext cx="1366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итика 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ратегия в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ачества 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6360" y="4581360"/>
              <a:ext cx="1008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3720" y="4541760"/>
              <a:ext cx="136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артнерство 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сурсы               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0360" y="2924280"/>
              <a:ext cx="136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сонал              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3645000"/>
              <a:ext cx="792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10040" y="3559320"/>
              <a:ext cx="1366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цессы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существляемые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ганизацией             1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9160" y="4991040"/>
              <a:ext cx="64764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08720" y="4557600"/>
              <a:ext cx="100800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21160" y="453708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общества  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0000" y="285264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92720" y="285264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персонала  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0000" y="3716280"/>
              <a:ext cx="93672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07120" y="3672000"/>
              <a:ext cx="1439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езультаты, касающиеся потребителей    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7080" y="3573360"/>
              <a:ext cx="86364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9640" y="3573360"/>
              <a:ext cx="1439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Основные  деловые результаты        1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6160" y="2852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Качество во имя лучшей жиз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19664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емь принципов менеджмента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   ориентация на потребител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   лидерство руководител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   вовлечение работников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    процессный подход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   системный подход к менеджменту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    постоянное улучшение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)    принятие решений, основанных на фактах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)    взаимовыгодные отношения с поставщ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нкт 0.2, ИСО 9000: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6000" y="148392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Суть экономики во многом може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ыть передана в четырех словах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Люди реагируют на стимулы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ё остальное – комментарии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тивен Ландсбер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ств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зработке и создании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джмента качества в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 изучите стандар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 пройдите учёб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 посещайте конгрессы, форумы, симпозиумы и.т.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 регулярно читайте всё что печатают о каче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 используйте интер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 не торопитесь нанимать консульта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 не назначайте представителя руководства по качес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со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ьте лидером в своем коллективе в области системного менеджмента, начиная прямо с принятие решения о разработке системы менеджмента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620640"/>
            <a:ext cx="7848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ль высшего руководства в систем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еджмента качества должна проявляться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)   разработке и поддержании политики и целей  организации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)   популяризации политики и целей в области  качества во всей организации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повышения осознания, мотивации и вовлечения персонал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)   обеспечении ориентации на требования потребителей во всей организ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)    обеспечении внедрения соответствующих процессов, позволяющих выполнять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ребования потребителей и других заинтересованных сторон и достигать цел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д)   обеспечении разработки, внедрения и   поддержания в   рабочем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остоянии   эффективной системы менеджмента качества для достижения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целей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)   обеспечении необходимыми ресурс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ж)   проведении периодического анализа системы менеджмента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)    принятии решений в отношении политики и целей в области каче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и)    принятии решений по мерам улучшения системы менеджмента качест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нкт 2.6, ИСО 9000: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ств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зработке и созданию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джмента качества в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  изучите стандар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   пройдите учёб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   посещайте конгрессы, форумы, симпозиумы и.т.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     регулярно читайте всё что печатают о каче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   используйте интер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    не торопитесь нанимать консульта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    не назначайте представителя руководства по качес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со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ьте лидером в своем коллективе в области системного менеджмента, начиная прямо с принятие решения о разработке системы менеджмента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76360" y="1052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ственные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мисс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и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 политика в области ка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цели в области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 структура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) шесть основных процед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)  стратегический план по внед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Миссия ТОО «Беккер и К»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852640"/>
            <a:ext cx="741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охранить традиции потребления натуральных продукт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Видение ТОО «Беккер и К»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421000"/>
            <a:ext cx="7416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тать региональным лидером в производстве и реализации натуральных продукт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080" y="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7:11:16Z</dcterms:created>
  <dc:creator>И.М. Кравченко</dc:creator>
  <dc:description>Форум 2007 </dc:description>
  <dc:language>en-US</dc:language>
  <cp:lastModifiedBy>User</cp:lastModifiedBy>
  <dcterms:modified xsi:type="dcterms:W3CDTF">2013-09-16T04:07:54Z</dcterms:modified>
  <cp:revision>47</cp:revision>
  <dc:subject/>
  <dc:title> </dc:title>
</cp:coreProperties>
</file>